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CA40-61B0-4A3A-A1C8-DBCD92388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0D1C-017E-45A4-A62E-3BFC355A2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016B-F34A-415C-A0D7-5702CFD06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A384-A7A9-4F51-BC81-6AC8BE130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0DB01-079C-415E-8656-7508B758A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CFDC9-391F-46C0-BFFF-9C73DD707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3DC3F-C8A5-4DEF-8F9D-0ABC57D3A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D37C8-EC2D-46A7-93B5-A568FC290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55ABA-278A-4FBA-8A38-AEECC817F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225A7-6755-44B6-B449-39D70FF32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08012-595F-4F13-9491-6057A3D9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CC18-73DE-4164-A86E-DD9A356F9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68D1F-6CE0-4773-B1B5-86124691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C9994-EA7B-4DBF-B7D5-AE604FB9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94A8E-2F13-4A01-9C6C-42AF22EF2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1767F-42DC-41CE-B045-C6EA20F7F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2DC31-2D06-4C4D-9583-10C5B3068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45B1-FD32-4C1F-BEEA-85D576288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5C75-4F76-4400-B175-463896748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DC7C-7C98-4E64-8234-8F7C60379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78F1-2941-4A66-838C-C530F5786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4113-A73D-4CAF-B106-8E6C05C9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E7D5-F959-46ED-8DAF-0ED641A8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3792-C359-44F2-836F-1AB58B4C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454C1-842E-4E6F-A4D0-6D12582275D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CA47B-A923-46E5-9094-C7D5D45D3F3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EC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サイト連動ソフトマニュアル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00720" y="5300640"/>
            <a:ext cx="761760" cy="5605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262480" y="5537160"/>
            <a:ext cx="35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株式会社インターメディア・プランニン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91080" y="5918040"/>
            <a:ext cx="320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ＭＳ Ｐゴシック"/>
              </a:rPr>
              <a:t>2012</a:t>
            </a:r>
            <a:r>
              <a:rPr b="0" lang="zh-CN" sz="1400" spc="-1" strike="noStrike">
                <a:solidFill>
                  <a:srgbClr val="006666"/>
                </a:solidFill>
                <a:latin typeface="ＭＳ Ｐゴシック"/>
              </a:rPr>
              <a:t>年</a:t>
            </a:r>
            <a:r>
              <a:rPr b="0" lang="en-US" sz="1400" spc="-1" strike="noStrike">
                <a:solidFill>
                  <a:srgbClr val="006666"/>
                </a:solidFill>
                <a:latin typeface="ＭＳ Ｐゴシック"/>
              </a:rPr>
              <a:t>6</a:t>
            </a:r>
            <a:r>
              <a:rPr b="0" lang="zh-CN" sz="1400" spc="-1" strike="noStrike">
                <a:solidFill>
                  <a:srgbClr val="006666"/>
                </a:solidFill>
                <a:latin typeface="ＭＳ Ｐゴシック"/>
              </a:rPr>
              <a:t>月作成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443640" y="2349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3366"/>
                </a:solidFill>
                <a:latin typeface="Arial"/>
              </a:rPr>
              <a:t>Ver 1.0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設定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26920" y="2349360"/>
            <a:ext cx="4897440" cy="33847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867280" y="2349360"/>
            <a:ext cx="3097440" cy="30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66"/>
                </a:solidFill>
                <a:latin typeface="Arial"/>
              </a:rPr>
              <a:t>楽天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SV</a:t>
            </a:r>
            <a:r>
              <a:rPr b="0" lang="zh-CN" sz="1200" spc="-1" strike="noStrike">
                <a:solidFill>
                  <a:srgbClr val="003366"/>
                </a:solidFill>
                <a:latin typeface="Arial"/>
              </a:rPr>
              <a:t>ファイルパ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66"/>
                </a:solidFill>
                <a:latin typeface="Arial"/>
              </a:rPr>
              <a:t>　楽天から取得した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SV</a:t>
            </a:r>
            <a:r>
              <a:rPr b="0" lang="zh-CN" sz="1200" spc="-1" strike="noStrike">
                <a:solidFill>
                  <a:srgbClr val="003366"/>
                </a:solidFill>
                <a:latin typeface="Arial"/>
              </a:rPr>
              <a:t>ファイルの置かれている場所を指定します。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66"/>
                </a:solidFill>
                <a:latin typeface="Arial"/>
              </a:rPr>
              <a:t>楽天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SV</a:t>
            </a:r>
            <a:r>
              <a:rPr b="0" lang="zh-CN" sz="1200" spc="-1" strike="noStrike">
                <a:solidFill>
                  <a:srgbClr val="003366"/>
                </a:solidFill>
                <a:latin typeface="Arial"/>
              </a:rPr>
              <a:t>ファイル名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66"/>
                </a:solidFill>
                <a:latin typeface="Arial"/>
              </a:rPr>
              <a:t>　取得したファイルの名称を指定します。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66"/>
                </a:solidFill>
                <a:latin typeface="Arial"/>
              </a:rPr>
              <a:t>売上伝票種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66"/>
                </a:solidFill>
                <a:latin typeface="Arial"/>
              </a:rPr>
              <a:t>　取得したデータを、どの伝票種で登録するか選択します。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66"/>
                </a:solidFill>
                <a:latin typeface="Arial"/>
              </a:rPr>
              <a:t>　（現金売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or </a:t>
            </a:r>
            <a:r>
              <a:rPr b="0" lang="zh-CN" sz="1200" spc="-1" strike="noStrike">
                <a:solidFill>
                  <a:srgbClr val="003366"/>
                </a:solidFill>
                <a:latin typeface="Arial"/>
              </a:rPr>
              <a:t>掛売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or </a:t>
            </a:r>
            <a:r>
              <a:rPr b="0" lang="zh-CN" sz="1200" spc="-1" strike="noStrike">
                <a:solidFill>
                  <a:srgbClr val="003366"/>
                </a:solidFill>
                <a:latin typeface="Arial"/>
              </a:rPr>
              <a:t>仮売上）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66"/>
                </a:solidFill>
                <a:latin typeface="Arial"/>
              </a:rPr>
              <a:t>得意先コード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66"/>
                </a:solidFill>
                <a:latin typeface="Arial"/>
              </a:rPr>
              <a:t>　売上データの詳細画面で、得意先の指定が行われなかった際に、登録する際に使用するコードです。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66"/>
                </a:solidFill>
                <a:latin typeface="Arial"/>
              </a:rPr>
              <a:t>コードの横に、そのコードで指定された得意先名が表示されます。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起動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09800" y="2421000"/>
            <a:ext cx="998280" cy="1079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124000" y="2565360"/>
            <a:ext cx="48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ショッピングカートのアイコンをダブルクリックして、ソフトを起動します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71640" y="3573360"/>
            <a:ext cx="5184720" cy="2357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112760" y="4397400"/>
            <a:ext cx="489924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443640" y="429264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使用するデータを選択し、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OK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を押します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26920" y="2349360"/>
            <a:ext cx="5415120" cy="37245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トップ画面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00720" y="2637000"/>
            <a:ext cx="284328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①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メニュー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　終了…ソフトを終了します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②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設定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　基本設定…設定を行います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③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データ取り込み…売り上げたデータを取り込みます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④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終了…ソフトを終了します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00000" y="26370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①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03280" y="26370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②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63640" y="42210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③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63640" y="48690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④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データ取り込み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72360" y="2349360"/>
            <a:ext cx="2663640" cy="32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①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メニュー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　トップへ戻る…トップ画面へ戻ります。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　終了…ソフトを終了します。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②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設定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　基本設定…設定を行います。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③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売上登録…読み込んだデータを販売大臣に登録します。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④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データ取得…楽天から出力された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CSV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データから、売上データを読み込みます。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⑤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トップへ戻る…トップ画面へ戻ります。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⑥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終了…ソフトを終了します。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55640" y="2349360"/>
            <a:ext cx="5388120" cy="37245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900000" y="26370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①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332000" y="2637000"/>
            <a:ext cx="35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②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530064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③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19640" y="5300640"/>
            <a:ext cx="35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④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76720" y="530064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⑤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580000" y="530064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⑥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826920" y="2781360"/>
            <a:ext cx="5616720" cy="38815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データ取得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7164360" y="2421000"/>
            <a:ext cx="1297080" cy="12970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900000" y="234936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メイン画面のデータ取得を押すと、データを読み込みます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32720" y="422100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データを読み込むと、上画像のメッセージが表示され、取り込んだデータが一覧で表示されます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データ確認・操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95280" y="2421000"/>
            <a:ext cx="4032360" cy="2786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3213000"/>
            <a:ext cx="2556000" cy="22575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95280" y="2781360"/>
            <a:ext cx="3960720" cy="142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338560" y="2924280"/>
            <a:ext cx="1440" cy="288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700360" y="3213000"/>
            <a:ext cx="2448000" cy="2286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268360" y="5084640"/>
            <a:ext cx="216000" cy="144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484360" y="5157720"/>
            <a:ext cx="216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59280" y="5157720"/>
            <a:ext cx="216000" cy="144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771280" y="5229360"/>
            <a:ext cx="2087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292720" y="3429000"/>
            <a:ext cx="36720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3366"/>
                </a:solidFill>
                <a:latin typeface="Arial"/>
              </a:rPr>
              <a:t>詳細を確認したい行をダブルクリックすると、詳細画面が開きます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3366"/>
                </a:solidFill>
                <a:latin typeface="Arial"/>
              </a:rPr>
              <a:t>なお、画面は下の</a:t>
            </a:r>
            <a:r>
              <a:rPr b="1" lang="ja-JP" sz="1600" spc="-1" strike="noStrike">
                <a:solidFill>
                  <a:srgbClr val="003366"/>
                </a:solidFill>
                <a:latin typeface="Arial"/>
              </a:rPr>
              <a:t>次へ</a:t>
            </a:r>
            <a:r>
              <a:rPr b="0" lang="ja-JP" sz="1600" spc="-1" strike="noStrike">
                <a:solidFill>
                  <a:srgbClr val="003366"/>
                </a:solidFill>
                <a:latin typeface="Arial"/>
              </a:rPr>
              <a:t>、</a:t>
            </a:r>
            <a:r>
              <a:rPr b="1" lang="ja-JP" sz="1600" spc="-1" strike="noStrike">
                <a:solidFill>
                  <a:srgbClr val="003366"/>
                </a:solidFill>
                <a:latin typeface="Arial"/>
              </a:rPr>
              <a:t>前へ</a:t>
            </a:r>
            <a:r>
              <a:rPr b="0" lang="ja-JP" sz="1600" spc="-1" strike="noStrike">
                <a:solidFill>
                  <a:srgbClr val="003366"/>
                </a:solidFill>
                <a:latin typeface="Arial"/>
              </a:rPr>
              <a:t>をクリックすると、画面が変わります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3366"/>
                </a:solidFill>
                <a:latin typeface="Arial"/>
              </a:rPr>
              <a:t>ここで、商品、得意先を、大臣に登録されたものとの照合を行います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340000" y="5229360"/>
            <a:ext cx="0" cy="5760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92360" y="5805360"/>
            <a:ext cx="1224000" cy="86364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08000" y="6021360"/>
            <a:ext cx="7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次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03640" y="5300640"/>
            <a:ext cx="0" cy="576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27640" y="5877000"/>
            <a:ext cx="1224000" cy="79200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16360" y="6093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前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商品照合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84360" y="2349360"/>
            <a:ext cx="4174920" cy="36878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508720" y="2349360"/>
            <a:ext cx="2536560" cy="37245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700360" y="3068640"/>
            <a:ext cx="503280" cy="144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3640" y="3141720"/>
            <a:ext cx="2089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08000" y="3068640"/>
            <a:ext cx="792360" cy="144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2268360" y="2707920"/>
            <a:ext cx="0" cy="36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68360" y="2708280"/>
            <a:ext cx="3311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55640" y="6021360"/>
            <a:ext cx="813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66"/>
                </a:solidFill>
                <a:latin typeface="Arial"/>
              </a:rPr>
              <a:t>コード照合ボタンを押すと、右画面が開きます。その際、入力欄には最初から取り込んだデータの商品名が表示されています。その状態で、下の一覧に目的の商品があれば、選んで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OK</a:t>
            </a:r>
            <a:r>
              <a:rPr b="0" lang="zh-CN" sz="1200" spc="-1" strike="noStrike">
                <a:solidFill>
                  <a:srgbClr val="003366"/>
                </a:solidFill>
                <a:latin typeface="Arial"/>
              </a:rPr>
              <a:t>を押してください。見つからない場合、入力欄に検索したい商品名を入力し、検索しなおしてください。あいまい検索が可能です。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得意先照合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55640" y="2349360"/>
            <a:ext cx="3770280" cy="33307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435640" y="2349360"/>
            <a:ext cx="2504880" cy="35942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898800" y="4108320"/>
            <a:ext cx="503280" cy="144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02080" y="4181400"/>
            <a:ext cx="1000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58920" y="3573360"/>
            <a:ext cx="792000" cy="14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19280" y="2707920"/>
            <a:ext cx="0" cy="865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1606680" y="2678040"/>
            <a:ext cx="3956040" cy="7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55640" y="5950080"/>
            <a:ext cx="81374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66"/>
                </a:solidFill>
                <a:latin typeface="Arial"/>
              </a:rPr>
              <a:t>注文者照合ボタンを押すと、右画面が開きます。その際、入力欄には最初から取り込んだデータの注文者名が表示されています。その状態で、下の一覧に目的の注文者があれば、選んで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OK</a:t>
            </a:r>
            <a:r>
              <a:rPr b="0" lang="zh-CN" sz="1200" spc="-1" strike="noStrike">
                <a:solidFill>
                  <a:srgbClr val="003366"/>
                </a:solidFill>
                <a:latin typeface="Arial"/>
              </a:rPr>
              <a:t>を押してください。見つからない場合、入力欄に検索したい商品名を入力し、検索しなおしてください。あいまい検索が可能です。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　ここで照合を行わなかった場合、設定で登録された得意先で、大臣に登録します。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売上登録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042920" y="2349360"/>
            <a:ext cx="5388120" cy="37245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116000" y="5661000"/>
            <a:ext cx="503280" cy="2890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16720" y="2421000"/>
            <a:ext cx="2448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売上登録ボタンを押すと、現在上の一覧に表示された売上データを、販売大臣に書き込みます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登録されると、一覧にデータが表示されなくなります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1T04:12:12Z</dcterms:created>
  <dc:creator>acer01</dc:creator>
  <dc:description/>
  <dc:language>en-US</dc:language>
  <cp:lastModifiedBy>acer01</cp:lastModifiedBy>
  <dcterms:modified xsi:type="dcterms:W3CDTF">2012-06-11T06:27:07Z</dcterms:modified>
  <cp:revision>4</cp:revision>
  <dc:subject/>
  <dc:title>ECサイト連動ソフトマニュアル</dc:title>
</cp:coreProperties>
</file>